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8248-AA29-46EC-BDB4-65D36A23647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26E7-268A-4F87-9144-07EBE87C452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E4A3-86AB-41F1-9CDF-968D3F920C2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9E0C-BD02-499A-A2E3-D05D6E3B4A5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BE46-DA87-411C-9DD3-27CE86B7B80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CF2C-5092-44CA-AF88-0B9ABC3D0E7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7229-75BF-49E6-92FA-5E309B8D7BF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B84A-D6BC-4965-AFA0-F7F4CD5D81B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B709-7B6E-4E30-8242-E810A97EC47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5439-FC3B-4232-AD11-283C594E399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DE52-953E-4B10-8339-D4F816819A7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D51E-786C-4024-B742-CA67478D7B8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BDB2-BDAF-4A99-A7BD-9AE97C8DE01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8603-E3A3-438B-9C46-285B045D3A2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81A4-B821-4102-B4E1-C07FE3B9AF8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F2E3-C4B4-412C-8B9C-1FE33D91E6B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14D5-E2B8-443C-906F-18561AB1408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F27C-462A-454A-A3BD-84D15D4BDC6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9550-9547-4CF6-89C2-9E16F568F80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1D94-ED92-44C9-80EA-5C843CF0E14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965-B8E9-42D9-B522-D3CA97B3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A3D-87A6-4198-9B4F-D3C16FF3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34C8-349A-4322-8617-119FC54B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135E-C299-416C-B13E-A23F13E4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A4EB-6983-4C92-A958-4B056E36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774-0449-4A9B-B8AB-F09425D7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C93C-9A01-45EF-BD7A-3AD5CE81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070-4229-4396-9D54-DCDAE306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6852-88CA-4237-8211-47B926EC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097B-F578-41F0-B805-43D05A53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20B-BFED-4433-A4DA-11B1016D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71C-2C79-4462-B15F-05DC275D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EC49-F704-4E3D-B946-C3416B5E5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JUTNOVI AKSIOMI MEHAN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SIO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INER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ostaje u stanju mirovanja ili jednolikog pravolinijskog kret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dok delovanje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e ne bude prinuđeno da to stanje promen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I NJUTNOV ZA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mena količine ktretanja tela (materijalne tačke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porcionalna je sili koja deluje na tel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vrši se u pravc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smeru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ovanja sil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d mase materijalne tačke i njenog ubrz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 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 intenzitet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vcu i smer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i koja deluje na 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1187280" y="4941720"/>
          <a:ext cx="3745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941720"/>
                    <a:ext cx="3745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930240" y="2133720"/>
                <a:ext cx="2448000" cy="31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Text Box 4"/>
          <p:cNvSpPr/>
          <p:nvPr/>
        </p:nvSpPr>
        <p:spPr>
          <a:xfrm>
            <a:off x="3059280" y="2492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Impulsni mome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IMER-Kružno kretanje pod uticajem sile F=F</a:t>
            </a:r>
            <a:r>
              <a:rPr b="0" lang="sr-Latn-C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=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539640" y="1844640"/>
                <a:ext cx="5183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;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5"/>
              <p:cNvSpPr txBox="1"/>
              <p:nvPr/>
            </p:nvSpPr>
            <p:spPr>
              <a:xfrm>
                <a:off x="539640" y="2639880"/>
                <a:ext cx="5183280" cy="42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ρ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mR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-  </m:t>
                    </m:r>
                    <m:sSup>
                      <m:e>
                        <m: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; 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Text Box 16"/>
          <p:cNvSpPr/>
          <p:nvPr/>
        </p:nvSpPr>
        <p:spPr>
          <a:xfrm>
            <a:off x="2987640" y="5445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četni us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500720" y="59500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ona brz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22"/>
          <p:cNvGraphicFramePr/>
          <p:nvPr/>
        </p:nvGraphicFramePr>
        <p:xfrm>
          <a:off x="5148360" y="2205000"/>
          <a:ext cx="360972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205000"/>
                    <a:ext cx="360972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7"/>
              <p:cNvSpPr txBox="1"/>
              <p:nvPr/>
            </p:nvSpPr>
            <p:spPr>
              <a:xfrm>
                <a:off x="684360" y="1601640"/>
                <a:ext cx="277812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/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3" name="Object 16"/>
          <p:cNvGraphicFramePr/>
          <p:nvPr/>
        </p:nvGraphicFramePr>
        <p:xfrm>
          <a:off x="5435640" y="1628640"/>
          <a:ext cx="3025800" cy="28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628640"/>
                    <a:ext cx="302580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2"/>
          <p:cNvGraphicFramePr/>
          <p:nvPr/>
        </p:nvGraphicFramePr>
        <p:xfrm>
          <a:off x="6372360" y="4437000"/>
          <a:ext cx="1871640" cy="17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437000"/>
                    <a:ext cx="187164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8"/>
          <p:cNvSpPr/>
          <p:nvPr/>
        </p:nvSpPr>
        <p:spPr>
          <a:xfrm>
            <a:off x="2411280" y="6237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Zakon o promeni kinetičke ener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700360" y="3213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Elementarni rad s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6"/>
              <p:cNvSpPr txBox="1"/>
              <p:nvPr/>
            </p:nvSpPr>
            <p:spPr>
              <a:xfrm>
                <a:off x="4067280" y="4941720"/>
                <a:ext cx="23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826920" y="1701720"/>
          <a:ext cx="7704360" cy="33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1720"/>
                    <a:ext cx="770436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5"/>
          <p:cNvSpPr/>
          <p:nvPr/>
        </p:nvSpPr>
        <p:spPr>
          <a:xfrm>
            <a:off x="2124000" y="1989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Kinetička energi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6"/>
          <p:cNvGraphicFramePr/>
          <p:nvPr/>
        </p:nvGraphicFramePr>
        <p:xfrm>
          <a:off x="3059280" y="1488960"/>
          <a:ext cx="2449440" cy="21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88960"/>
                    <a:ext cx="244944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7" name="Object 13"/>
              <p:cNvSpPr txBox="1"/>
              <p:nvPr/>
            </p:nvSpPr>
            <p:spPr>
              <a:xfrm>
                <a:off x="1187280" y="3860640"/>
                <a:ext cx="316872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oul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1 J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15"/>
          <p:cNvGraphicFramePr/>
          <p:nvPr/>
        </p:nvGraphicFramePr>
        <p:xfrm>
          <a:off x="4572000" y="2205000"/>
          <a:ext cx="4292640" cy="434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5000"/>
                    <a:ext cx="429264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Object 18"/>
              <p:cNvSpPr txBox="1"/>
              <p:nvPr/>
            </p:nvSpPr>
            <p:spPr>
              <a:xfrm>
                <a:off x="1187280" y="1773360"/>
                <a:ext cx="151308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m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826920" y="2565360"/>
                <a:ext cx="7704360" cy="30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d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y {</m:t>
                        </m:r>
                        <m:r>
                          <m:t xml:space="preserve">j</m:t>
                        </m:r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z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d>
                    <m:r>
                      <m:rPr>
                        <m:lit/>
                        <m:nor/>
                      </m:rPr>
                      <m:t xml:space="preserve">   ako 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d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Yd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Zdz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dz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Text Box 4"/>
          <p:cNvSpPr/>
          <p:nvPr/>
        </p:nvSpPr>
        <p:spPr>
          <a:xfrm>
            <a:off x="755640" y="17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755640" y="3573360"/>
                <a:ext cx="7201080" cy="31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d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Z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4"/>
          <p:cNvSpPr/>
          <p:nvPr/>
        </p:nvSpPr>
        <p:spPr>
          <a:xfrm>
            <a:off x="755640" y="1700280"/>
            <a:ext cx="8137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rad sile ne zavisi od oblika putanje po kojoj se vrši kretanje već samo zavisi od početnog i krajnjeg položaja, tada se takva sila naziva konzervativnom silom. Rad sile u tom slučaju predstavlja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otalni diferencijal skalarne funk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loža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755640" y="2637000"/>
                <a:ext cx="4897440" cy="18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  <m:e/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4"/>
          <p:cNvSpPr/>
          <p:nvPr/>
        </p:nvSpPr>
        <p:spPr>
          <a:xfrm>
            <a:off x="755640" y="170028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bi sila bila konzervativna koordinate vektora sile moraju biti izražene preko odgovarajućih izvoda jedne iste funkcije polož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627280" y="407664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tencijal polja sile (potencijalja energija m. tač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55640" y="350028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de 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826920" y="2311560"/>
          <a:ext cx="56167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11560"/>
                    <a:ext cx="56167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4"/>
          <p:cNvSpPr/>
          <p:nvPr/>
        </p:nvSpPr>
        <p:spPr>
          <a:xfrm>
            <a:off x="755640" y="17002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 poljem sile podrazumevamo prostor u kome deluje si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55640" y="350028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 matematike, ako je f=f(x,y,z) – skalarna funkcija, tada je gradijent funkcije 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826920" y="4365720"/>
                <a:ext cx="39592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rad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4360" y="544500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se 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ka kreće u polju konzervativne sile, onda se ulaže sila na račun potencij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755640" y="1700280"/>
                <a:ext cx="6624720" cy="34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     III NJUTNOV ZAKON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AKCIJE I REAK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zajamni mehanički uticaji dvaju tela ispoljavaju se silama koje imaju isti intenzitet i pravac, a deluju u suprotnim smerov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V NJUTNOV ZAKON (ZAKON O SLAGANJ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na telo (materijalnu tačku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uju istovrameno dve sile, tada se telo (tačka) kreće opisujući dijagonalu paralelograma konstruisanog nad tim silama kao vektor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dT=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→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Zakon o održanju energ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+U=co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pitni prvi zadtatak ISPUS21okt04.d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6"/>
              <p:cNvSpPr txBox="1"/>
              <p:nvPr/>
            </p:nvSpPr>
            <p:spPr>
              <a:xfrm>
                <a:off x="826920" y="4437000"/>
                <a:ext cx="44643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  ;  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  ;  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;  </m:t>
                    </m:r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-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7"/>
          <p:cNvSpPr/>
          <p:nvPr/>
        </p:nvSpPr>
        <p:spPr>
          <a:xfrm>
            <a:off x="611280" y="2997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Njutnov zakon važi u odnosu na inercijalni koordinatni si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403280" y="249228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zultanta svih sila koje deluju na materijalnu ta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39640" y="357336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DEKARTOV KOORDINATNI SI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4788000" y="551664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D.J. Kretan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9"/>
              <p:cNvSpPr txBox="1"/>
              <p:nvPr/>
            </p:nvSpPr>
            <p:spPr>
              <a:xfrm>
                <a:off x="971640" y="1413000"/>
                <a:ext cx="141264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500040" y="2143080"/>
          <a:ext cx="302256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143080"/>
                    <a:ext cx="302256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4"/>
          <p:cNvSpPr/>
          <p:nvPr/>
        </p:nvSpPr>
        <p:spPr>
          <a:xfrm>
            <a:off x="3635280" y="551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četni usl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39640" y="1268280"/>
            <a:ext cx="80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RODNE KOORDIN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4284720" y="2060640"/>
          <a:ext cx="410364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060640"/>
                    <a:ext cx="410364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8"/>
          <p:cNvSpPr/>
          <p:nvPr/>
        </p:nvSpPr>
        <p:spPr>
          <a:xfrm>
            <a:off x="468360" y="177336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MER: Matematičko klat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684360" y="1700280"/>
                <a:ext cx="5327640" cy="30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/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</m:e>
                        </m:d>
                        <m:r>
                          <m:t xml:space="preserve">⇒</m:t>
                        </m:r>
                        <m:r>
                          <m:t xml:space="preserve">m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Text Box 7"/>
          <p:cNvSpPr/>
          <p:nvPr/>
        </p:nvSpPr>
        <p:spPr>
          <a:xfrm>
            <a:off x="684360" y="472428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F=const ili F=F(t), tada se gornji integral može izračun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900000" y="1754280"/>
          <a:ext cx="6624720" cy="16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54280"/>
                    <a:ext cx="662472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"/>
          <p:cNvGraphicFramePr/>
          <p:nvPr/>
        </p:nvGraphicFramePr>
        <p:xfrm>
          <a:off x="900000" y="3571920"/>
          <a:ext cx="6939000" cy="19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571920"/>
                    <a:ext cx="6939000" cy="19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2" descr="2"/>
          <p:cNvPicPr/>
          <p:nvPr/>
        </p:nvPicPr>
        <p:blipFill>
          <a:blip r:embed="rId1"/>
          <a:srcRect l="18565" t="24289" r="3795" b="19184"/>
          <a:stretch/>
        </p:blipFill>
        <p:spPr>
          <a:xfrm>
            <a:off x="3492360" y="4076640"/>
            <a:ext cx="5435640" cy="2479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826920" y="1557360"/>
                <a:ext cx="1368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826920" y="2133720"/>
                <a:ext cx="3657600" cy="457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</m:e>
                      <m:e>
                        <m:r>
                          <m:t xml:space="preserve">Δt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820800" y="1989000"/>
                <a:ext cx="3849480" cy="410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den>
                        </m:f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 Box 8"/>
          <p:cNvSpPr/>
          <p:nvPr/>
        </p:nvSpPr>
        <p:spPr>
          <a:xfrm>
            <a:off x="3492360" y="4653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diferencijal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851280" y="5445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količine kretanja (inercijalni mo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0"/>
          <p:cNvGraphicFramePr/>
          <p:nvPr/>
        </p:nvGraphicFramePr>
        <p:xfrm>
          <a:off x="4788000" y="1413000"/>
          <a:ext cx="3527280" cy="35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413000"/>
                    <a:ext cx="352728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3"/>
              <p:cNvSpPr txBox="1"/>
              <p:nvPr/>
            </p:nvSpPr>
            <p:spPr>
              <a:xfrm>
                <a:off x="468360" y="2060640"/>
                <a:ext cx="3773520" cy="42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bSup>
                          </m:sub>
                          <m:sup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sup>
                          <m:e>
                            <m:r>
                              <m:t xml:space="preserve">d</m:t>
                            </m:r>
                          </m:e>
                        </m:nary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-</m:t>
                        </m:r>
                      </m:e>
                    </m:eqAr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4284720" y="429264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konač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547640" y="5805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je funkcija vre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2T07:51:02Z</dcterms:modified>
  <cp:revision>145</cp:revision>
  <dc:subject/>
  <dc:title>ТЕХНИЧКА МЕХАНИКА 2</dc:title>
</cp:coreProperties>
</file>